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5D723-CA1A-4C2A-9126-DA80A012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47979-882B-46C3-B363-35A63D94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CF1B1-0F9C-4AA6-A0DD-2E7242B5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FDFC7-9964-487F-B7F1-8CF5E135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ED36-F8F2-4F80-808C-D104636F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BD2D-5111-4685-BACE-103C8E0C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EE15-A1BA-43C2-A82F-88064C87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B1A9-E210-4173-AF43-2384E294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055E-957E-4560-A667-D511F82E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AFEF-9726-4C46-A40C-80C35B89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3B7D-E8EB-460B-A9E8-3EE3C953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D89F4-E811-4A22-96AA-695316A7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26F0-C784-4F6D-AD38-AA50B79D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C217-A3C1-4BE2-A8E0-9ADD5974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DF6A-5481-4489-B18A-A576C919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2BA7-969B-4A12-81D7-2936CCC7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37C8-2257-4541-A810-AC7F2530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F544D-9872-4845-95E5-D2A36D83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61688-56FD-483F-84D5-EBBD5B9A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EA71C-B813-4A13-A6D8-04D17A2A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2EB9A-C9B5-4788-B2F2-F48F2820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E052B-558D-4DB8-B106-0C5C8734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F3878-C3F6-4E40-A884-6432894F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2E7D8-E4C6-41B5-A7DF-B8CAE2EE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B49E-B059-4B3A-9644-016D912EB8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1D32-1262-4F73-AC1D-C55DCBD4AB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key-Plaintext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key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a small key length is a weakness of a Vigenere cipher one fix that has been used is called an autokey cip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keywo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keyword to encipher the first segment of plai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plaintext segment as the key for the next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5C8DE-0F12-4725-9B94-400C4D0EBF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96960" y="549576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 will implement this 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74320" y="346860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urier New"/>
              </a:rPr>
              <a:t>anautoke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ipherprovidesalong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79000" y="3240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79000" y="3697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12520" y="3240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79000" y="3468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12520" y="3697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u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64760" y="3230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26560" y="3468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4760" y="3692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ex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17360" y="3244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69440" y="3468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86480" y="3433680"/>
            <a:ext cx="88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A1E0D-9CE4-4481-81C5-B7D349CABD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4T02:51:55Z</dcterms:modified>
  <cp:revision>60</cp:revision>
  <dc:subject/>
  <dc:title>CAP Cryptographic Analysis Program</dc:title>
</cp:coreProperties>
</file>